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2.pct" ContentType="image/x-pict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B7B5-350F-456D-B653-9AEADA022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A72F-0E8C-4B95-973C-112306C61D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0453-E0C4-4C86-97B1-5C20E839DF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00BC-02DE-4486-B9F0-C39DB928F4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383D-E7E0-473A-BCD2-F188A45309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3F09-E772-4F9E-8BAD-D04E3D44C7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4FE2-C90F-497E-9072-21ED55A9F4F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4B46-67FA-4426-9913-F1E7BE0306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2C51-A0DC-47F8-96B6-C19862426B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E639-9F22-47DD-82B9-56672CF13B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A83C9-2669-469C-9958-1758F82FB1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199C-60D7-4F88-8EA6-DEA3979DFF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3093-357F-4323-957B-CDFAF054C5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AFB5-1410-45D9-81E9-2AD5647B70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15F00-0EF4-45BA-80EC-2912CA21DD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8A639-123A-4824-85EF-75761954E7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760B-FD95-42F4-BA00-A9DA771988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41D9-56A0-438E-B456-CEC13277B8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E7629-FB43-450A-982A-06CEDB3C04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2A95-5EF2-4A87-AE15-441390F80EA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BB81-EC08-4323-B600-A5445BAB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090-8EF2-465B-969C-7A77D0B5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835-AA05-4F34-820D-AC8AA026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3EE-9088-44E2-9297-EAE867C7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6E6F-5C8D-4E25-AD3D-88B88093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4909-0F92-45DC-A8F8-C78FF07BC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8301C-5EC3-4358-953A-2322DAA4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1AB2-E730-4159-936C-C0AACDCF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E7CC-1ACF-4D19-89F7-471C95DD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2621-BBC2-4079-BEA3-49442C57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6CF5-3EEF-4873-B112-95B1073A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663-9FF6-4232-8AFE-ED4CE993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C391-C8AF-43B6-A432-01818554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D587-1A3F-4C69-B74C-20F501F2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FAE6-F2EF-4AB9-8ADE-61ED2ADE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6E3A8-98AD-44EA-951B-58F86BE1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8A6F-9181-412F-8719-CE5C3251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365-D8E4-47E7-9ED4-094CA35F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4244-A71A-4418-8DE5-B30E80C9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47B2-6CBD-4EDB-9C0E-D60A1914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E022-1530-4545-8F9C-2D8244807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892-304D-4024-9E3D-5C61143A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BDD-31C6-4155-A096-647A9B06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5CFA-8209-4ABA-BC02-DFC539E6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0C56-28E6-4B67-BBAD-9BB0FF3AFF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AC7A-E38E-478E-B318-33C87844C9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ducationworld.com/a_lesson/images/lp_classroomrules_180w.gif&amp;imgrefurl=http://www.educationworld.com/a_lesson/lesson/lesson274.shtml&amp;h=180&amp;w=180&amp;sz=6&amp;hl=en&amp;start=14&amp;tbnid=2j0tmSBbjnFYjM:&amp;tbnh=101&amp;tbnw=101&amp;prev=/images?q=classroom+rules&amp;gbv=2&amp;hl=e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aywhatyoumeanconvention.com/friends.jpg&amp;imgrefurl=http://www.saywhatyoumeanconvention.com/kids-day-07.html&amp;h=271&amp;w=403&amp;sz=24&amp;hl=en&amp;start=4&amp;tbnid=BVQUjgf-yWDeRM:&amp;tbnh=83&amp;tbnw=124&amp;prev=/images?q=kid+friends&amp;gbv=2&amp;hl=e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wtonka.com/Okay.gif&amp;imgrefurl=http://www.lawtonka.com/maps.html&amp;h=1920&amp;w=925&amp;sz=101&amp;hl=en&amp;start=2&amp;tbnid=XITnn3IGflS2SM:&amp;tbnh=150&amp;tbnw=72&amp;prev=/images?q=okay&amp;gbv=2&amp;hl=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thesift.atlblogs.com/images/scared.png&amp;imgrefurl=http://thesift.atlblogs.com/archives/010517.html&amp;h=254&amp;w=278&amp;sz=22&amp;hl=en&amp;start=8&amp;tbnid=m8YK_4Uf-AbtIM:&amp;tbnh=104&amp;tbnw=114&amp;prev=/images?q=Scared&amp;gbv=2&amp;hl=en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blogs.s60.com/tommi/images/learning.jpg&amp;imgrefurl=http://blogs.s60.com/tommi/2007/07/&amp;h=346&amp;w=347&amp;sz=100&amp;hl=en&amp;start=4&amp;tbnid=IGAsqLaIoLwb_M:&amp;tbnh=120&amp;tbnw=120&amp;prev=/images?q=Learning&amp;gbv=2&amp;hl=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nder.edu/mathcis/faculty/MathCISImages/Laura_Lander_SMART_Classroom.jpg&amp;imgrefurl=http://www.lander.edu/mathcis/resource/&amp;h=451&amp;w=600&amp;sz=40&amp;hl=en&amp;start=9&amp;tbnid=CCucR1Bivt570M:&amp;tbnh=101&amp;tbnw=135&amp;prev=/images?q=classroom&amp;gbv=2&amp;hl=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nder.edu/mathcis/faculty/MathCISImages/Laura_Lander_SMART_Classroom.jpg&amp;imgrefurl=http://www.lander.edu/mathcis/resource/&amp;h=451&amp;w=600&amp;sz=40&amp;hl=en&amp;start=9&amp;tbnid=CCucR1Bivt570M:&amp;tbnh=101&amp;tbnw=135&amp;prev=/images?q=classroom&amp;gbv=2&amp;hl=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am.gov/teachers/images/image_teacher.jpg&amp;imgrefurl=http://www.bam.gov/teachers/index.htm&amp;h=402&amp;w=380&amp;sz=41&amp;hl=en&amp;start=5&amp;tbnid=p7UFRDIuRU3UkM:&amp;tbnh=124&amp;tbnw=117&amp;prev=/images?q=teacher&amp;gbv=2&amp;hl=en&amp;sa=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global-b2b-network.com/direct/dbimage/50318908/Student_Desk.jpg&amp;imgrefurl=http://www.global-b2b-network.com/b2b/26/28/882/21436/office_chair.html&amp;h=360&amp;w=360&amp;sz=16&amp;hl=en&amp;start=2&amp;tbnid=8vG7YkSiO8A38M:&amp;tbnh=121&amp;tbnw=121&amp;prev=/images?q=desk&amp;gbv=2&amp;hl=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olumbia.edu/cu/augustine/study/schedule.gif&amp;imgrefurl=http://www.columbia.edu/cu/augustine/study/schedule.html&amp;h=573&amp;w=443&amp;sz=7&amp;hl=en&amp;start=1&amp;tbnid=0ZC1W84yBf-uBM:&amp;tbnh=134&amp;tbnw=104&amp;prev=/images?q=schedule&amp;gbv=2&amp;hl=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A New Classroom for Jas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ason will have new classroom rules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lp_classroomrules_180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962520"/>
            <a:ext cx="2028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Jason will have new friend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5" descr="frien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4038480"/>
            <a:ext cx="304812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at’s okay!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Okay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038480"/>
            <a:ext cx="24382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ason may feel….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0" y="21333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car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scare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3200400"/>
            <a:ext cx="2514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590560" y="2057400"/>
            <a:ext cx="3927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ervou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istockphoto_3688168_nervous_wreck"/>
          <p:cNvPicPr/>
          <p:nvPr/>
        </p:nvPicPr>
        <p:blipFill>
          <a:blip r:embed="rId1"/>
          <a:stretch/>
        </p:blipFill>
        <p:spPr>
          <a:xfrm>
            <a:off x="3276720" y="3581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971800" y="1981080"/>
            <a:ext cx="3927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r M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BIG_make-face-angry"/>
          <p:cNvPicPr/>
          <p:nvPr/>
        </p:nvPicPr>
        <p:blipFill>
          <a:blip r:embed="rId1"/>
          <a:stretch/>
        </p:blipFill>
        <p:spPr>
          <a:xfrm>
            <a:off x="3581280" y="3809880"/>
            <a:ext cx="304812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hings Jason can do when he feels Scare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, “That scares me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l an adul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k for a hu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y, “I’m afraid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hings Jason can do if he feels Mad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y, “I’m mad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for a wal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 to a quiet are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sten to musi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deep brea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47560" y="1676160"/>
            <a:ext cx="6553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Jason will have fun in his new classroom.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1" descr="MCj01302530000[1]"/>
          <p:cNvPicPr/>
          <p:nvPr/>
        </p:nvPicPr>
        <p:blipFill>
          <a:blip r:embed="rId1"/>
          <a:stretch/>
        </p:blipFill>
        <p:spPr>
          <a:xfrm>
            <a:off x="2743200" y="3124080"/>
            <a:ext cx="39276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When students get older, they learn new things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learn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19112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re will be adults in Jason’s classroom who will help him with this change.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o learn these new things, sometimes students have to change classrooms.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5" descr="Laura_Lander_SMART_Classro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449568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l students have to change classrooms at some point in their lives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tudents change classrooms when they are in 6</a:t>
            </a:r>
            <a:r>
              <a:rPr b="0" lang="en-US" sz="6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or 7</a:t>
            </a:r>
            <a:r>
              <a:rPr b="0" lang="en-US" sz="6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grade.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 August 2008, Jason will change classrooms.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Laura_Lander_SMART_Classro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71800" y="3886200"/>
            <a:ext cx="3505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75438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Jason will have a new teacher.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5" descr="image_teach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3581280"/>
            <a:ext cx="3276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Jason will have a new desk.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Student_Des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19112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Jason will have a new schedule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schedu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4038480"/>
            <a:ext cx="2362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1:54:05Z</dcterms:created>
  <dc:creator>Kszewczyk</dc:creator>
  <dc:description/>
  <dc:language>en-US</dc:language>
  <cp:lastModifiedBy>Kristin Szewczyk</cp:lastModifiedBy>
  <dcterms:modified xsi:type="dcterms:W3CDTF">2008-07-11T21:35:12Z</dcterms:modified>
  <cp:revision>8</cp:revision>
  <dc:subject/>
  <dc:title>A New Classroom for Zachery</dc:title>
</cp:coreProperties>
</file>